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DA09-6BC4-40AF-9B0E-BE6EF14C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9BAE-DB64-4EF3-9E7A-8DFFEAFA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54F8-B424-43B6-8AD1-6F5E4273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A771-579D-4BC3-BB13-B0FB8FC7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26D6-11C0-4B13-BBC0-3BFA6CF9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DE1D-F3E5-45A9-AD82-51E7B5DF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1EC2-8D67-43C1-9348-06619774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D9B2-D109-4833-86F1-F9055051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03BB-0158-43B3-9CE6-54FF6585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404D-2C58-4042-9A28-C9782444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1058-77AA-47BB-9771-C847175E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B59E-03B9-4423-9D70-6FBD414E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C463-ACD5-4A6D-B6C3-268F10AEE0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hyperlink" Target="file:///C:/Users/Steve/AppData/Local/Temp/webquest%20author%20detective%20task%20sheet.doc" TargetMode="Externa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hyperlink" Target="file:///C:/Users/Steve/AppData/Local/Temp/webquest%20rubric%20for%20biography%20poster.doc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image" Target="../media/image5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7632720" y="5697360"/>
            <a:ext cx="1187280" cy="827280"/>
          </a:xfrm>
          <a:custGeom>
            <a:avLst/>
            <a:gdLst>
              <a:gd name="textAreaLeft" fmla="*/ 53640 w 1187280"/>
              <a:gd name="textAreaRight" fmla="*/ 1133640 w 1187280"/>
              <a:gd name="textAreaTop" fmla="*/ 53640 h 827280"/>
              <a:gd name="textAreaBottom" fmla="*/ 773640 h 827280"/>
            </a:gdLst>
            <a:ahLst/>
            <a:rect l="textAreaLeft" t="textAreaTop" r="textAreaRight" b="textAreaBottom"/>
            <a:pathLst>
              <a:path w="30995" h="21600">
                <a:moveTo>
                  <a:pt x="0" y="0"/>
                </a:moveTo>
                <a:lnTo>
                  <a:pt x="30995" y="0"/>
                </a:lnTo>
                <a:lnTo>
                  <a:pt x="30995" y="21600"/>
                </a:lnTo>
                <a:lnTo>
                  <a:pt x="0" y="21600"/>
                </a:lnTo>
                <a:close/>
              </a:path>
              <a:path fill="lightenLess" w="30995" h="21600">
                <a:moveTo>
                  <a:pt x="0" y="0"/>
                </a:moveTo>
                <a:lnTo>
                  <a:pt x="30995" y="0"/>
                </a:lnTo>
                <a:lnTo>
                  <a:pt x="29595" y="1400"/>
                </a:lnTo>
                <a:lnTo>
                  <a:pt x="1400" y="1400"/>
                </a:lnTo>
                <a:close/>
              </a:path>
              <a:path fill="darken" w="30995" h="21600">
                <a:moveTo>
                  <a:pt x="30995" y="0"/>
                </a:moveTo>
                <a:lnTo>
                  <a:pt x="30995" y="21600"/>
                </a:lnTo>
                <a:lnTo>
                  <a:pt x="29595" y="20200"/>
                </a:lnTo>
                <a:lnTo>
                  <a:pt x="29595" y="1400"/>
                </a:lnTo>
                <a:close/>
              </a:path>
              <a:path fill="darkenLess" w="30995" h="21600">
                <a:moveTo>
                  <a:pt x="309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95" y="20200"/>
                </a:lnTo>
                <a:close/>
              </a:path>
              <a:path fill="lighten" w="309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50920" y="368280"/>
            <a:ext cx="662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T'S BE </a:t>
            </a:r>
            <a:endParaRPr b="0" lang="en-US" sz="4000" spc="1" strike="noStrike">
              <a:ln cap="sq"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TECTIVES</a:t>
            </a:r>
            <a:endParaRPr b="0" lang="en-US" sz="4000" spc="1" strike="noStrike">
              <a:ln cap="sq"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-541440" y="4292640"/>
            <a:ext cx="5651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Web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econd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Mrs.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harlesmont Ele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416720" y="5697360"/>
            <a:ext cx="1405080" cy="827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64000" y="5769000"/>
            <a:ext cx="20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ick on the book to beg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435640" y="3500280"/>
            <a:ext cx="2128680" cy="2160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187280" y="2313000"/>
            <a:ext cx="622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>
                        <a:alpha val="50196"/>
                      </a:srgbClr>
                    </a:gs>
                    <a:gs pos="100000">
                      <a:srgbClr val="a603ab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Author Detectives!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>
                      <a:alpha val="50196"/>
                    </a:srgbClr>
                  </a:gs>
                  <a:gs pos="100000">
                    <a:srgbClr val="a603ab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50920" y="6058080"/>
            <a:ext cx="2413080" cy="539640"/>
          </a:xfrm>
          <a:prstGeom prst="leftArrow">
            <a:avLst>
              <a:gd name="adj1" fmla="val 50000"/>
              <a:gd name="adj2" fmla="val 111791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CK TO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1640" y="692280"/>
            <a:ext cx="788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ggy Rath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ick on the links to read and learn as much as you can about Peggy Rathman. Record information on the Author Detective Task Sh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ids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ids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du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216000" y="6093000"/>
            <a:ext cx="2771640" cy="468000"/>
          </a:xfrm>
          <a:custGeom>
            <a:avLst/>
            <a:gdLst>
              <a:gd name="textAreaLeft" fmla="*/ 30240 w 2771640"/>
              <a:gd name="textAreaRight" fmla="*/ 2741400 w 2771640"/>
              <a:gd name="textAreaTop" fmla="*/ 30240 h 468000"/>
              <a:gd name="textAreaBottom" fmla="*/ 437760 h 468000"/>
            </a:gdLst>
            <a:ahLst/>
            <a:rect l="textAreaLeft" t="textAreaTop" r="textAreaRight" b="textAreaBottom"/>
            <a:pathLst>
              <a:path w="127840" h="21600">
                <a:moveTo>
                  <a:pt x="0" y="0"/>
                </a:moveTo>
                <a:lnTo>
                  <a:pt x="127840" y="0"/>
                </a:lnTo>
                <a:lnTo>
                  <a:pt x="127840" y="21600"/>
                </a:lnTo>
                <a:lnTo>
                  <a:pt x="0" y="21600"/>
                </a:lnTo>
                <a:close/>
              </a:path>
              <a:path fill="lightenLess" w="127840" h="21600">
                <a:moveTo>
                  <a:pt x="0" y="0"/>
                </a:moveTo>
                <a:lnTo>
                  <a:pt x="127840" y="0"/>
                </a:lnTo>
                <a:lnTo>
                  <a:pt x="126440" y="1400"/>
                </a:lnTo>
                <a:lnTo>
                  <a:pt x="1400" y="1400"/>
                </a:lnTo>
                <a:close/>
              </a:path>
              <a:path fill="darken" w="127840" h="21600">
                <a:moveTo>
                  <a:pt x="127840" y="0"/>
                </a:moveTo>
                <a:lnTo>
                  <a:pt x="127840" y="21600"/>
                </a:lnTo>
                <a:lnTo>
                  <a:pt x="126440" y="20200"/>
                </a:lnTo>
                <a:lnTo>
                  <a:pt x="126440" y="1400"/>
                </a:lnTo>
                <a:close/>
              </a:path>
              <a:path fill="darkenLess" w="127840" h="21600">
                <a:moveTo>
                  <a:pt x="1278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6440" y="20200"/>
                </a:lnTo>
                <a:close/>
              </a:path>
              <a:path fill="lighten" w="1278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7840" h="21600">
                <a:moveTo>
                  <a:pt x="56914" y="10800"/>
                </a:moveTo>
                <a:lnTo>
                  <a:pt x="70927" y="3794"/>
                </a:lnTo>
                <a:lnTo>
                  <a:pt x="7092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0920" y="6058080"/>
            <a:ext cx="2376360" cy="610920"/>
          </a:xfrm>
          <a:prstGeom prst="leftArrow">
            <a:avLst>
              <a:gd name="adj1" fmla="val 50000"/>
              <a:gd name="adj2" fmla="val 97245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CK TO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1640" y="692280"/>
            <a:ext cx="788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ry S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ick on the links to read and learn as much as you can about Gary Soto. Record information on the Author Detective Task Sh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kip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ids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du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216000" y="6129360"/>
            <a:ext cx="2700360" cy="468360"/>
          </a:xfrm>
          <a:custGeom>
            <a:avLst/>
            <a:gdLst>
              <a:gd name="textAreaLeft" fmla="*/ 30240 w 2700360"/>
              <a:gd name="textAreaRight" fmla="*/ 2670120 w 270036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124457" h="21600">
                <a:moveTo>
                  <a:pt x="0" y="0"/>
                </a:moveTo>
                <a:lnTo>
                  <a:pt x="124457" y="0"/>
                </a:lnTo>
                <a:lnTo>
                  <a:pt x="124457" y="21600"/>
                </a:lnTo>
                <a:lnTo>
                  <a:pt x="0" y="21600"/>
                </a:lnTo>
                <a:close/>
              </a:path>
              <a:path fill="lightenLess" w="124457" h="21600">
                <a:moveTo>
                  <a:pt x="0" y="0"/>
                </a:moveTo>
                <a:lnTo>
                  <a:pt x="124457" y="0"/>
                </a:lnTo>
                <a:lnTo>
                  <a:pt x="123057" y="1400"/>
                </a:lnTo>
                <a:lnTo>
                  <a:pt x="1400" y="1400"/>
                </a:lnTo>
                <a:close/>
              </a:path>
              <a:path fill="darken" w="124457" h="21600">
                <a:moveTo>
                  <a:pt x="124457" y="0"/>
                </a:moveTo>
                <a:lnTo>
                  <a:pt x="124457" y="21600"/>
                </a:lnTo>
                <a:lnTo>
                  <a:pt x="123057" y="20200"/>
                </a:lnTo>
                <a:lnTo>
                  <a:pt x="123057" y="1400"/>
                </a:lnTo>
                <a:close/>
              </a:path>
              <a:path fill="darkenLess" w="124457" h="21600">
                <a:moveTo>
                  <a:pt x="124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057" y="20200"/>
                </a:lnTo>
                <a:close/>
              </a:path>
              <a:path fill="lighten" w="124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4457" h="21600">
                <a:moveTo>
                  <a:pt x="55222" y="10800"/>
                </a:moveTo>
                <a:lnTo>
                  <a:pt x="69235" y="3794"/>
                </a:lnTo>
                <a:lnTo>
                  <a:pt x="6923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31640" y="5985000"/>
            <a:ext cx="865440" cy="576000"/>
          </a:xfrm>
          <a:prstGeom prst="leftArrow">
            <a:avLst>
              <a:gd name="adj1" fmla="val 50000"/>
              <a:gd name="adj2" fmla="val 37563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firstslide"/>
          </p:cNvPr>
          <p:cNvSpPr/>
          <p:nvPr/>
        </p:nvSpPr>
        <p:spPr>
          <a:xfrm>
            <a:off x="358920" y="5950080"/>
            <a:ext cx="1044360" cy="539640"/>
          </a:xfrm>
          <a:custGeom>
            <a:avLst/>
            <a:gdLst>
              <a:gd name="textAreaLeft" fmla="*/ 34920 w 1044360"/>
              <a:gd name="textAreaRight" fmla="*/ 1009440 w 1044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1789" h="21600">
                <a:moveTo>
                  <a:pt x="0" y="0"/>
                </a:moveTo>
                <a:lnTo>
                  <a:pt x="41789" y="0"/>
                </a:lnTo>
                <a:lnTo>
                  <a:pt x="41789" y="21600"/>
                </a:lnTo>
                <a:lnTo>
                  <a:pt x="0" y="21600"/>
                </a:lnTo>
                <a:close/>
              </a:path>
              <a:path fill="lightenLess" w="41789" h="21600">
                <a:moveTo>
                  <a:pt x="0" y="0"/>
                </a:moveTo>
                <a:lnTo>
                  <a:pt x="41789" y="0"/>
                </a:lnTo>
                <a:lnTo>
                  <a:pt x="40389" y="1400"/>
                </a:lnTo>
                <a:lnTo>
                  <a:pt x="1400" y="1400"/>
                </a:lnTo>
                <a:close/>
              </a:path>
              <a:path fill="darken" w="41789" h="21600">
                <a:moveTo>
                  <a:pt x="41789" y="0"/>
                </a:moveTo>
                <a:lnTo>
                  <a:pt x="41789" y="21600"/>
                </a:lnTo>
                <a:lnTo>
                  <a:pt x="40389" y="20200"/>
                </a:lnTo>
                <a:lnTo>
                  <a:pt x="40389" y="1400"/>
                </a:lnTo>
                <a:close/>
              </a:path>
              <a:path fill="darkenLess" w="41789" h="21600">
                <a:moveTo>
                  <a:pt x="41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89" y="20200"/>
                </a:lnTo>
                <a:close/>
              </a:path>
              <a:path fill="lighten" w="41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789" h="21600">
                <a:moveTo>
                  <a:pt x="17396" y="10800"/>
                </a:moveTo>
                <a:lnTo>
                  <a:pt x="27901" y="3794"/>
                </a:lnTo>
                <a:lnTo>
                  <a:pt x="27901" y="17806"/>
                </a:lnTo>
                <a:close/>
              </a:path>
              <a:path fill="darken" w="41789" h="21600">
                <a:moveTo>
                  <a:pt x="13888" y="3794"/>
                </a:moveTo>
                <a:lnTo>
                  <a:pt x="15550" y="3794"/>
                </a:lnTo>
                <a:lnTo>
                  <a:pt x="15550" y="17806"/>
                </a:lnTo>
                <a:lnTo>
                  <a:pt x="1388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216000" y="1989000"/>
            <a:ext cx="9360000" cy="20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86920" y="3968280"/>
            <a:ext cx="5651640" cy="19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they always been wri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ere their favorite school subjec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do they l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they have child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o they like to do for fu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05000"/>
            <a:ext cx="914400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read many great stories in second grade this ye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 you remember these charact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Dragon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    Officer Buckle and Gloria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   Henry and Mud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     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Maya and Julius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    Ricky (Big Bushy Mustach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do you know about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uth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who created these character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800360" y="260280"/>
            <a:ext cx="5290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>
                        <a:alpha val="50196"/>
                      </a:srgbClr>
                    </a:gs>
                    <a:gs pos="100000">
                      <a:srgbClr val="a603ab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INTRODUCTION</a:t>
            </a:r>
            <a:endParaRPr b="0" lang="en-US" sz="3200" spc="1" strike="noStrike">
              <a:ln cap="sq"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>
                      <a:alpha val="50196"/>
                    </a:srgbClr>
                  </a:gs>
                  <a:gs pos="100000">
                    <a:srgbClr val="a603ab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227640" y="5624640"/>
            <a:ext cx="1044720" cy="995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948360" y="4076640"/>
            <a:ext cx="1981440" cy="1368360"/>
          </a:xfrm>
          <a:prstGeom prst="wedgeRoundRectCallout">
            <a:avLst>
              <a:gd name="adj1" fmla="val -28125"/>
              <a:gd name="adj2" fmla="val 76333"/>
              <a:gd name="adj3" fmla="val 16667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ck on my book to begin your quest for answ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6227640" y="6058080"/>
            <a:ext cx="1008360" cy="539640"/>
          </a:xfrm>
          <a:custGeom>
            <a:avLst/>
            <a:gdLst>
              <a:gd name="textAreaLeft" fmla="*/ 34920 w 1008360"/>
              <a:gd name="textAreaRight" fmla="*/ 973440 w 1008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0349" h="21600">
                <a:moveTo>
                  <a:pt x="0" y="0"/>
                </a:moveTo>
                <a:lnTo>
                  <a:pt x="40349" y="0"/>
                </a:lnTo>
                <a:lnTo>
                  <a:pt x="40349" y="21600"/>
                </a:lnTo>
                <a:lnTo>
                  <a:pt x="0" y="21600"/>
                </a:lnTo>
                <a:close/>
              </a:path>
              <a:path fill="lightenLess" w="40349" h="21600">
                <a:moveTo>
                  <a:pt x="0" y="0"/>
                </a:moveTo>
                <a:lnTo>
                  <a:pt x="40349" y="0"/>
                </a:lnTo>
                <a:lnTo>
                  <a:pt x="38949" y="1400"/>
                </a:lnTo>
                <a:lnTo>
                  <a:pt x="1400" y="1400"/>
                </a:lnTo>
                <a:close/>
              </a:path>
              <a:path fill="darken" w="40349" h="21600">
                <a:moveTo>
                  <a:pt x="40349" y="0"/>
                </a:moveTo>
                <a:lnTo>
                  <a:pt x="40349" y="21600"/>
                </a:lnTo>
                <a:lnTo>
                  <a:pt x="38949" y="20200"/>
                </a:lnTo>
                <a:lnTo>
                  <a:pt x="38949" y="1400"/>
                </a:lnTo>
                <a:close/>
              </a:path>
              <a:path fill="darkenLess" w="40349" h="21600">
                <a:moveTo>
                  <a:pt x="40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949" y="20200"/>
                </a:lnTo>
                <a:close/>
              </a:path>
              <a:path fill="lighten" w="40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349" h="21600">
                <a:moveTo>
                  <a:pt x="13168" y="3794"/>
                </a:moveTo>
                <a:lnTo>
                  <a:pt x="27181" y="10800"/>
                </a:lnTo>
                <a:lnTo>
                  <a:pt x="1316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596360" y="6021360"/>
            <a:ext cx="973080" cy="549360"/>
          </a:xfrm>
          <a:prstGeom prst="rightArrow">
            <a:avLst>
              <a:gd name="adj1" fmla="val 50000"/>
              <a:gd name="adj2" fmla="val 44282"/>
            </a:avLst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6058080"/>
            <a:ext cx="1008000" cy="574560"/>
          </a:xfrm>
          <a:prstGeom prst="leftArrow">
            <a:avLst>
              <a:gd name="adj1" fmla="val 50000"/>
              <a:gd name="adj2" fmla="val 4386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 rot="818400">
            <a:off x="1426680" y="375840"/>
            <a:ext cx="552600" cy="612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31640" y="1089000"/>
            <a:ext cx="838836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been selected as a detective to research the life of a children’s auth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will use the research links provided as well as books from the library to collect important and interesting facts about one of these children’s 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Dav Pilkey 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(Dragon Gets By)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Angela Johnson 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(Juli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Cynthia Rylant  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(Henry and Mud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Peggy Rathman 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(Officer Buckle and Glor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Gary Soto 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(Big Bushy Mustach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n, you will use the facts you collected to create a poster to share with the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rot="818400">
            <a:off x="7295760" y="375840"/>
            <a:ext cx="552600" cy="61272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7451640" y="612936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735280" y="297000"/>
            <a:ext cx="36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ASK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287280" y="6165720"/>
            <a:ext cx="1116000" cy="397080"/>
          </a:xfrm>
          <a:custGeom>
            <a:avLst/>
            <a:gdLst>
              <a:gd name="textAreaLeft" fmla="*/ 25560 w 1116000"/>
              <a:gd name="textAreaRight" fmla="*/ 1090440 w 1116000"/>
              <a:gd name="textAreaTop" fmla="*/ 25560 h 397080"/>
              <a:gd name="textAreaBottom" fmla="*/ 371520 h 397080"/>
            </a:gdLst>
            <a:ahLst/>
            <a:rect l="textAreaLeft" t="textAreaTop" r="textAreaRight" b="textAreaBottom"/>
            <a:pathLst>
              <a:path w="60672" h="21600">
                <a:moveTo>
                  <a:pt x="0" y="0"/>
                </a:moveTo>
                <a:lnTo>
                  <a:pt x="60672" y="0"/>
                </a:lnTo>
                <a:lnTo>
                  <a:pt x="60672" y="21600"/>
                </a:lnTo>
                <a:lnTo>
                  <a:pt x="0" y="21600"/>
                </a:lnTo>
                <a:close/>
              </a:path>
              <a:path fill="lightenLess" w="60672" h="21600">
                <a:moveTo>
                  <a:pt x="0" y="0"/>
                </a:moveTo>
                <a:lnTo>
                  <a:pt x="60672" y="0"/>
                </a:lnTo>
                <a:lnTo>
                  <a:pt x="59272" y="1400"/>
                </a:lnTo>
                <a:lnTo>
                  <a:pt x="1400" y="1400"/>
                </a:lnTo>
                <a:close/>
              </a:path>
              <a:path fill="darken" w="60672" h="21600">
                <a:moveTo>
                  <a:pt x="60672" y="0"/>
                </a:moveTo>
                <a:lnTo>
                  <a:pt x="60672" y="21600"/>
                </a:lnTo>
                <a:lnTo>
                  <a:pt x="59272" y="20200"/>
                </a:lnTo>
                <a:lnTo>
                  <a:pt x="59272" y="1400"/>
                </a:lnTo>
                <a:close/>
              </a:path>
              <a:path fill="darkenLess" w="60672" h="21600">
                <a:moveTo>
                  <a:pt x="60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72" y="20200"/>
                </a:lnTo>
                <a:close/>
              </a:path>
              <a:path fill="lighten" w="60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672" h="21600">
                <a:moveTo>
                  <a:pt x="23329" y="10800"/>
                </a:moveTo>
                <a:lnTo>
                  <a:pt x="37342" y="3794"/>
                </a:lnTo>
                <a:lnTo>
                  <a:pt x="3734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>
            <a:hlinkClick r:id="rId2" action="ppaction://hlinksldjump"/>
          </p:cNvPr>
          <p:cNvSpPr/>
          <p:nvPr/>
        </p:nvSpPr>
        <p:spPr>
          <a:xfrm>
            <a:off x="684360" y="4041720"/>
            <a:ext cx="2627280" cy="397080"/>
          </a:xfrm>
          <a:custGeom>
            <a:avLst/>
            <a:gdLst>
              <a:gd name="textAreaLeft" fmla="*/ 25560 w 2627280"/>
              <a:gd name="textAreaRight" fmla="*/ 2601720 w 2627280"/>
              <a:gd name="textAreaTop" fmla="*/ 25560 h 397080"/>
              <a:gd name="textAreaBottom" fmla="*/ 371520 h 397080"/>
            </a:gdLst>
            <a:ahLst/>
            <a:rect l="textAreaLeft" t="textAreaTop" r="textAreaRight" b="textAreaBottom"/>
            <a:pathLst>
              <a:path w="142807" h="21600">
                <a:moveTo>
                  <a:pt x="0" y="0"/>
                </a:moveTo>
                <a:lnTo>
                  <a:pt x="142807" y="0"/>
                </a:lnTo>
                <a:lnTo>
                  <a:pt x="142807" y="21600"/>
                </a:lnTo>
                <a:lnTo>
                  <a:pt x="0" y="21600"/>
                </a:lnTo>
                <a:close/>
              </a:path>
              <a:path fill="lightenLess" w="142807" h="21600">
                <a:moveTo>
                  <a:pt x="0" y="0"/>
                </a:moveTo>
                <a:lnTo>
                  <a:pt x="142807" y="0"/>
                </a:lnTo>
                <a:lnTo>
                  <a:pt x="141407" y="1400"/>
                </a:lnTo>
                <a:lnTo>
                  <a:pt x="1400" y="1400"/>
                </a:lnTo>
                <a:close/>
              </a:path>
              <a:path fill="darken" w="142807" h="21600">
                <a:moveTo>
                  <a:pt x="142807" y="0"/>
                </a:moveTo>
                <a:lnTo>
                  <a:pt x="142807" y="21600"/>
                </a:lnTo>
                <a:lnTo>
                  <a:pt x="141407" y="20200"/>
                </a:lnTo>
                <a:lnTo>
                  <a:pt x="141407" y="1400"/>
                </a:lnTo>
                <a:close/>
              </a:path>
              <a:path fill="darkenLess" w="142807" h="21600">
                <a:moveTo>
                  <a:pt x="1428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407" y="20200"/>
                </a:lnTo>
                <a:close/>
              </a:path>
              <a:path fill="lighten" w="1428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2807" h="21600">
                <a:moveTo>
                  <a:pt x="64397" y="3794"/>
                </a:moveTo>
                <a:lnTo>
                  <a:pt x="78410" y="10800"/>
                </a:lnTo>
                <a:lnTo>
                  <a:pt x="6439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56360" y="6165720"/>
            <a:ext cx="1619280" cy="36828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92720" y="6165720"/>
            <a:ext cx="1619280" cy="368280"/>
          </a:xfrm>
          <a:prstGeom prst="rect">
            <a:avLst/>
          </a:prstGeom>
          <a:solidFill>
            <a:srgbClr val="ffc9e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195640" y="225360"/>
            <a:ext cx="464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OCESS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29080" y="6165720"/>
            <a:ext cx="1618920" cy="368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6165720"/>
            <a:ext cx="1619280" cy="3682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3" action="ppaction://hlinksldjump"/>
          </p:cNvPr>
          <p:cNvSpPr/>
          <p:nvPr/>
        </p:nvSpPr>
        <p:spPr>
          <a:xfrm>
            <a:off x="6121440" y="6130800"/>
            <a:ext cx="1692360" cy="358920"/>
          </a:xfrm>
          <a:custGeom>
            <a:avLst/>
            <a:gdLst>
              <a:gd name="textAreaLeft" fmla="*/ 23040 w 1692360"/>
              <a:gd name="textAreaRight" fmla="*/ 1669320 w 1692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01767" h="21600">
                <a:moveTo>
                  <a:pt x="0" y="0"/>
                </a:moveTo>
                <a:lnTo>
                  <a:pt x="101767" y="0"/>
                </a:lnTo>
                <a:lnTo>
                  <a:pt x="101767" y="21600"/>
                </a:lnTo>
                <a:lnTo>
                  <a:pt x="0" y="21600"/>
                </a:lnTo>
                <a:close/>
              </a:path>
              <a:path fill="lightenLess" w="101767" h="21600">
                <a:moveTo>
                  <a:pt x="0" y="0"/>
                </a:moveTo>
                <a:lnTo>
                  <a:pt x="101767" y="0"/>
                </a:lnTo>
                <a:lnTo>
                  <a:pt x="100367" y="1400"/>
                </a:lnTo>
                <a:lnTo>
                  <a:pt x="1400" y="1400"/>
                </a:lnTo>
                <a:close/>
              </a:path>
              <a:path fill="darken" w="101767" h="21600">
                <a:moveTo>
                  <a:pt x="101767" y="0"/>
                </a:moveTo>
                <a:lnTo>
                  <a:pt x="101767" y="21600"/>
                </a:lnTo>
                <a:lnTo>
                  <a:pt x="100367" y="20200"/>
                </a:lnTo>
                <a:lnTo>
                  <a:pt x="100367" y="1400"/>
                </a:lnTo>
                <a:close/>
              </a:path>
              <a:path fill="darkenLess" w="101767" h="21600">
                <a:moveTo>
                  <a:pt x="1017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367" y="20200"/>
                </a:lnTo>
                <a:close/>
              </a:path>
              <a:path fill="lighten" w="1017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1767" h="21600">
                <a:moveTo>
                  <a:pt x="43877" y="3794"/>
                </a:moveTo>
                <a:lnTo>
                  <a:pt x="57890" y="10800"/>
                </a:lnTo>
                <a:lnTo>
                  <a:pt x="438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4" action="ppaction://hlinksldjump"/>
          </p:cNvPr>
          <p:cNvSpPr/>
          <p:nvPr/>
        </p:nvSpPr>
        <p:spPr>
          <a:xfrm>
            <a:off x="936720" y="6165720"/>
            <a:ext cx="1549440" cy="360360"/>
          </a:xfrm>
          <a:custGeom>
            <a:avLst/>
            <a:gdLst>
              <a:gd name="textAreaLeft" fmla="*/ 23040 w 1549440"/>
              <a:gd name="textAreaRight" fmla="*/ 1526400 w 1549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2802" h="21600">
                <a:moveTo>
                  <a:pt x="0" y="0"/>
                </a:moveTo>
                <a:lnTo>
                  <a:pt x="92802" y="0"/>
                </a:lnTo>
                <a:lnTo>
                  <a:pt x="92802" y="21600"/>
                </a:lnTo>
                <a:lnTo>
                  <a:pt x="0" y="21600"/>
                </a:lnTo>
                <a:close/>
              </a:path>
              <a:path fill="lightenLess" w="92802" h="21600">
                <a:moveTo>
                  <a:pt x="0" y="0"/>
                </a:moveTo>
                <a:lnTo>
                  <a:pt x="92802" y="0"/>
                </a:lnTo>
                <a:lnTo>
                  <a:pt x="91402" y="1400"/>
                </a:lnTo>
                <a:lnTo>
                  <a:pt x="1400" y="1400"/>
                </a:lnTo>
                <a:close/>
              </a:path>
              <a:path fill="darken" w="92802" h="21600">
                <a:moveTo>
                  <a:pt x="92802" y="0"/>
                </a:moveTo>
                <a:lnTo>
                  <a:pt x="92802" y="21600"/>
                </a:lnTo>
                <a:lnTo>
                  <a:pt x="91402" y="20200"/>
                </a:lnTo>
                <a:lnTo>
                  <a:pt x="91402" y="1400"/>
                </a:lnTo>
                <a:close/>
              </a:path>
              <a:path fill="darkenLess" w="92802" h="21600">
                <a:moveTo>
                  <a:pt x="92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402" y="20200"/>
                </a:lnTo>
                <a:close/>
              </a:path>
              <a:path fill="lighten" w="92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2802" h="21600">
                <a:moveTo>
                  <a:pt x="39395" y="3794"/>
                </a:moveTo>
                <a:lnTo>
                  <a:pt x="53408" y="10800"/>
                </a:lnTo>
                <a:lnTo>
                  <a:pt x="3939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5" action="ppaction://hlinksldjump"/>
          </p:cNvPr>
          <p:cNvSpPr/>
          <p:nvPr/>
        </p:nvSpPr>
        <p:spPr>
          <a:xfrm>
            <a:off x="2736720" y="6130800"/>
            <a:ext cx="1476360" cy="393840"/>
          </a:xfrm>
          <a:custGeom>
            <a:avLst/>
            <a:gdLst>
              <a:gd name="textAreaLeft" fmla="*/ 25200 w 1476360"/>
              <a:gd name="textAreaRight" fmla="*/ 1451160 w 14763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80916" h="21600">
                <a:moveTo>
                  <a:pt x="0" y="0"/>
                </a:moveTo>
                <a:lnTo>
                  <a:pt x="80916" y="0"/>
                </a:lnTo>
                <a:lnTo>
                  <a:pt x="80916" y="21600"/>
                </a:lnTo>
                <a:lnTo>
                  <a:pt x="0" y="21600"/>
                </a:lnTo>
                <a:close/>
              </a:path>
              <a:path fill="lightenLess" w="80916" h="21600">
                <a:moveTo>
                  <a:pt x="0" y="0"/>
                </a:moveTo>
                <a:lnTo>
                  <a:pt x="80916" y="0"/>
                </a:lnTo>
                <a:lnTo>
                  <a:pt x="79516" y="1400"/>
                </a:lnTo>
                <a:lnTo>
                  <a:pt x="1400" y="1400"/>
                </a:lnTo>
                <a:close/>
              </a:path>
              <a:path fill="darken" w="80916" h="21600">
                <a:moveTo>
                  <a:pt x="80916" y="0"/>
                </a:moveTo>
                <a:lnTo>
                  <a:pt x="80916" y="21600"/>
                </a:lnTo>
                <a:lnTo>
                  <a:pt x="79516" y="20200"/>
                </a:lnTo>
                <a:lnTo>
                  <a:pt x="79516" y="1400"/>
                </a:lnTo>
                <a:close/>
              </a:path>
              <a:path fill="darkenLess" w="80916" h="21600">
                <a:moveTo>
                  <a:pt x="80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16" y="20200"/>
                </a:lnTo>
                <a:close/>
              </a:path>
              <a:path fill="lighten" w="80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16" h="21600">
                <a:moveTo>
                  <a:pt x="33452" y="3794"/>
                </a:moveTo>
                <a:lnTo>
                  <a:pt x="47465" y="10800"/>
                </a:lnTo>
                <a:lnTo>
                  <a:pt x="3345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6" action="ppaction://hlinksldjump"/>
          </p:cNvPr>
          <p:cNvSpPr/>
          <p:nvPr/>
        </p:nvSpPr>
        <p:spPr>
          <a:xfrm>
            <a:off x="4392720" y="6202440"/>
            <a:ext cx="1690560" cy="331560"/>
          </a:xfrm>
          <a:custGeom>
            <a:avLst/>
            <a:gdLst>
              <a:gd name="textAreaLeft" fmla="*/ 21240 w 1690560"/>
              <a:gd name="textAreaRight" fmla="*/ 1669320 w 1690560"/>
              <a:gd name="textAreaTop" fmla="*/ 21240 h 331560"/>
              <a:gd name="textAreaBottom" fmla="*/ 310320 h 331560"/>
            </a:gdLst>
            <a:ahLst/>
            <a:rect l="textAreaLeft" t="textAreaTop" r="textAreaRight" b="textAreaBottom"/>
            <a:pathLst>
              <a:path w="110038" h="21600">
                <a:moveTo>
                  <a:pt x="0" y="0"/>
                </a:moveTo>
                <a:lnTo>
                  <a:pt x="110038" y="0"/>
                </a:lnTo>
                <a:lnTo>
                  <a:pt x="110038" y="21600"/>
                </a:lnTo>
                <a:lnTo>
                  <a:pt x="0" y="21600"/>
                </a:lnTo>
                <a:close/>
              </a:path>
              <a:path fill="lightenLess" w="110038" h="21600">
                <a:moveTo>
                  <a:pt x="0" y="0"/>
                </a:moveTo>
                <a:lnTo>
                  <a:pt x="110038" y="0"/>
                </a:lnTo>
                <a:lnTo>
                  <a:pt x="108638" y="1400"/>
                </a:lnTo>
                <a:lnTo>
                  <a:pt x="1400" y="1400"/>
                </a:lnTo>
                <a:close/>
              </a:path>
              <a:path fill="darken" w="110038" h="21600">
                <a:moveTo>
                  <a:pt x="110038" y="0"/>
                </a:moveTo>
                <a:lnTo>
                  <a:pt x="110038" y="21600"/>
                </a:lnTo>
                <a:lnTo>
                  <a:pt x="108638" y="20200"/>
                </a:lnTo>
                <a:lnTo>
                  <a:pt x="108638" y="1400"/>
                </a:lnTo>
                <a:close/>
              </a:path>
              <a:path fill="darkenLess" w="110038" h="21600">
                <a:moveTo>
                  <a:pt x="110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8638" y="20200"/>
                </a:lnTo>
                <a:close/>
              </a:path>
              <a:path fill="lighten" w="110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0038" h="21600">
                <a:moveTo>
                  <a:pt x="48013" y="10800"/>
                </a:moveTo>
                <a:lnTo>
                  <a:pt x="62026" y="3794"/>
                </a:lnTo>
                <a:lnTo>
                  <a:pt x="6202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800280"/>
            <a:ext cx="91440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t the Author Detective Task She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where you will record important information you fi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ter, you will use this information to create a pos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/>
              </a:rPr>
              <a:t>Author Detective Task 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Click on an author’s name to begin your detective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Dav Pilkey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ngela Johnson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ynthia Ryl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Peggy Rathman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Gary Soto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 Use your completed Author Detective Task Sheet to create a poster that will inform others about this author’s life. Check out the evaluation section to see what you need on your pos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667640" y="5553000"/>
            <a:ext cx="396720" cy="720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8" action="ppaction://hlinksldjump"/>
          </p:cNvPr>
          <p:cNvSpPr/>
          <p:nvPr/>
        </p:nvSpPr>
        <p:spPr>
          <a:xfrm>
            <a:off x="0" y="3537000"/>
            <a:ext cx="1584360" cy="395280"/>
          </a:xfrm>
          <a:custGeom>
            <a:avLst/>
            <a:gdLst>
              <a:gd name="textAreaLeft" fmla="*/ 25560 w 1584360"/>
              <a:gd name="textAreaRight" fmla="*/ 1558800 w 158436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86518" h="21600">
                <a:moveTo>
                  <a:pt x="0" y="0"/>
                </a:moveTo>
                <a:lnTo>
                  <a:pt x="86518" y="0"/>
                </a:lnTo>
                <a:lnTo>
                  <a:pt x="86518" y="21600"/>
                </a:lnTo>
                <a:lnTo>
                  <a:pt x="0" y="21600"/>
                </a:lnTo>
                <a:close/>
              </a:path>
              <a:path fill="lightenLess" w="86518" h="21600">
                <a:moveTo>
                  <a:pt x="0" y="0"/>
                </a:moveTo>
                <a:lnTo>
                  <a:pt x="86518" y="0"/>
                </a:lnTo>
                <a:lnTo>
                  <a:pt x="85118" y="1400"/>
                </a:lnTo>
                <a:lnTo>
                  <a:pt x="1400" y="1400"/>
                </a:lnTo>
                <a:close/>
              </a:path>
              <a:path fill="darken" w="86518" h="21600">
                <a:moveTo>
                  <a:pt x="86518" y="0"/>
                </a:moveTo>
                <a:lnTo>
                  <a:pt x="86518" y="21600"/>
                </a:lnTo>
                <a:lnTo>
                  <a:pt x="85118" y="20200"/>
                </a:lnTo>
                <a:lnTo>
                  <a:pt x="85118" y="1400"/>
                </a:lnTo>
                <a:close/>
              </a:path>
              <a:path fill="darkenLess" w="86518" h="21600">
                <a:moveTo>
                  <a:pt x="8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118" y="20200"/>
                </a:lnTo>
                <a:close/>
              </a:path>
              <a:path fill="lighten" w="8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518" h="21600">
                <a:moveTo>
                  <a:pt x="36252" y="3794"/>
                </a:moveTo>
                <a:lnTo>
                  <a:pt x="50265" y="10800"/>
                </a:lnTo>
                <a:lnTo>
                  <a:pt x="3625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9" action="ppaction://hlinksldjump"/>
          </p:cNvPr>
          <p:cNvSpPr/>
          <p:nvPr/>
        </p:nvSpPr>
        <p:spPr>
          <a:xfrm>
            <a:off x="2700360" y="3537000"/>
            <a:ext cx="2484360" cy="504720"/>
          </a:xfrm>
          <a:custGeom>
            <a:avLst/>
            <a:gdLst>
              <a:gd name="textAreaLeft" fmla="*/ 32400 w 2484360"/>
              <a:gd name="textAreaRight" fmla="*/ 2451960 w 2484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106260" h="21600">
                <a:moveTo>
                  <a:pt x="0" y="0"/>
                </a:moveTo>
                <a:lnTo>
                  <a:pt x="106260" y="0"/>
                </a:lnTo>
                <a:lnTo>
                  <a:pt x="106260" y="21600"/>
                </a:lnTo>
                <a:lnTo>
                  <a:pt x="0" y="21600"/>
                </a:lnTo>
                <a:close/>
              </a:path>
              <a:path fill="lightenLess" w="106260" h="21600">
                <a:moveTo>
                  <a:pt x="0" y="0"/>
                </a:moveTo>
                <a:lnTo>
                  <a:pt x="106260" y="0"/>
                </a:lnTo>
                <a:lnTo>
                  <a:pt x="104860" y="1400"/>
                </a:lnTo>
                <a:lnTo>
                  <a:pt x="1400" y="1400"/>
                </a:lnTo>
                <a:close/>
              </a:path>
              <a:path fill="darken" w="106260" h="21600">
                <a:moveTo>
                  <a:pt x="106260" y="0"/>
                </a:moveTo>
                <a:lnTo>
                  <a:pt x="106260" y="21600"/>
                </a:lnTo>
                <a:lnTo>
                  <a:pt x="104860" y="20200"/>
                </a:lnTo>
                <a:lnTo>
                  <a:pt x="104860" y="1400"/>
                </a:lnTo>
                <a:close/>
              </a:path>
              <a:path fill="darkenLess" w="106260" h="21600">
                <a:moveTo>
                  <a:pt x="106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860" y="20200"/>
                </a:lnTo>
                <a:close/>
              </a:path>
              <a:path fill="lighten" w="106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6260" h="21600">
                <a:moveTo>
                  <a:pt x="46124" y="3794"/>
                </a:moveTo>
                <a:lnTo>
                  <a:pt x="60137" y="10800"/>
                </a:lnTo>
                <a:lnTo>
                  <a:pt x="461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0" action="ppaction://hlinksldjump"/>
          </p:cNvPr>
          <p:cNvSpPr/>
          <p:nvPr/>
        </p:nvSpPr>
        <p:spPr>
          <a:xfrm>
            <a:off x="6372360" y="3500280"/>
            <a:ext cx="2233440" cy="432000"/>
          </a:xfrm>
          <a:custGeom>
            <a:avLst/>
            <a:gdLst>
              <a:gd name="textAreaLeft" fmla="*/ 27720 w 2233440"/>
              <a:gd name="textAreaRight" fmla="*/ 2205720 w 2233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1597" h="21600">
                <a:moveTo>
                  <a:pt x="0" y="0"/>
                </a:moveTo>
                <a:lnTo>
                  <a:pt x="111597" y="0"/>
                </a:lnTo>
                <a:lnTo>
                  <a:pt x="111597" y="21600"/>
                </a:lnTo>
                <a:lnTo>
                  <a:pt x="0" y="21600"/>
                </a:lnTo>
                <a:close/>
              </a:path>
              <a:path fill="lightenLess" w="111597" h="21600">
                <a:moveTo>
                  <a:pt x="0" y="0"/>
                </a:moveTo>
                <a:lnTo>
                  <a:pt x="111597" y="0"/>
                </a:lnTo>
                <a:lnTo>
                  <a:pt x="110197" y="1400"/>
                </a:lnTo>
                <a:lnTo>
                  <a:pt x="1400" y="1400"/>
                </a:lnTo>
                <a:close/>
              </a:path>
              <a:path fill="darken" w="111597" h="21600">
                <a:moveTo>
                  <a:pt x="111597" y="0"/>
                </a:moveTo>
                <a:lnTo>
                  <a:pt x="111597" y="21600"/>
                </a:lnTo>
                <a:lnTo>
                  <a:pt x="110197" y="20200"/>
                </a:lnTo>
                <a:lnTo>
                  <a:pt x="110197" y="1400"/>
                </a:lnTo>
                <a:close/>
              </a:path>
              <a:path fill="darkenLess" w="111597" h="21600">
                <a:moveTo>
                  <a:pt x="111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197" y="20200"/>
                </a:lnTo>
                <a:close/>
              </a:path>
              <a:path fill="lighten" w="111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1597" h="21600">
                <a:moveTo>
                  <a:pt x="48792" y="3794"/>
                </a:moveTo>
                <a:lnTo>
                  <a:pt x="62805" y="10800"/>
                </a:lnTo>
                <a:lnTo>
                  <a:pt x="4879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1" action="ppaction://hlinksldjump"/>
          </p:cNvPr>
          <p:cNvSpPr/>
          <p:nvPr/>
        </p:nvSpPr>
        <p:spPr>
          <a:xfrm>
            <a:off x="4464000" y="4005360"/>
            <a:ext cx="2340000" cy="433440"/>
          </a:xfrm>
          <a:custGeom>
            <a:avLst/>
            <a:gdLst>
              <a:gd name="textAreaLeft" fmla="*/ 28080 w 2340000"/>
              <a:gd name="textAreaRight" fmla="*/ 2311920 w 23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16532" h="21600">
                <a:moveTo>
                  <a:pt x="0" y="0"/>
                </a:moveTo>
                <a:lnTo>
                  <a:pt x="116532" y="0"/>
                </a:lnTo>
                <a:lnTo>
                  <a:pt x="116532" y="21600"/>
                </a:lnTo>
                <a:lnTo>
                  <a:pt x="0" y="21600"/>
                </a:lnTo>
                <a:close/>
              </a:path>
              <a:path fill="lightenLess" w="116532" h="21600">
                <a:moveTo>
                  <a:pt x="0" y="0"/>
                </a:moveTo>
                <a:lnTo>
                  <a:pt x="116532" y="0"/>
                </a:lnTo>
                <a:lnTo>
                  <a:pt x="115132" y="1400"/>
                </a:lnTo>
                <a:lnTo>
                  <a:pt x="1400" y="1400"/>
                </a:lnTo>
                <a:close/>
              </a:path>
              <a:path fill="darken" w="116532" h="21600">
                <a:moveTo>
                  <a:pt x="116532" y="0"/>
                </a:moveTo>
                <a:lnTo>
                  <a:pt x="116532" y="21600"/>
                </a:lnTo>
                <a:lnTo>
                  <a:pt x="115132" y="20200"/>
                </a:lnTo>
                <a:lnTo>
                  <a:pt x="115132" y="1400"/>
                </a:lnTo>
                <a:close/>
              </a:path>
              <a:path fill="darkenLess" w="116532" h="21600">
                <a:moveTo>
                  <a:pt x="116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132" y="20200"/>
                </a:lnTo>
                <a:close/>
              </a:path>
              <a:path fill="lighten" w="116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6532" h="21600">
                <a:moveTo>
                  <a:pt x="51260" y="3794"/>
                </a:moveTo>
                <a:lnTo>
                  <a:pt x="65273" y="10800"/>
                </a:lnTo>
                <a:lnTo>
                  <a:pt x="5126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9280" y="4005360"/>
            <a:ext cx="2700360" cy="431640"/>
          </a:xfrm>
          <a:custGeom>
            <a:avLst/>
            <a:gdLst>
              <a:gd name="textAreaLeft" fmla="*/ 27720 w 2700360"/>
              <a:gd name="textAreaRight" fmla="*/ 2672640 w 27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35036" h="21600">
                <a:moveTo>
                  <a:pt x="0" y="0"/>
                </a:moveTo>
                <a:lnTo>
                  <a:pt x="135036" y="0"/>
                </a:lnTo>
                <a:lnTo>
                  <a:pt x="135036" y="21600"/>
                </a:lnTo>
                <a:lnTo>
                  <a:pt x="0" y="21600"/>
                </a:lnTo>
                <a:close/>
              </a:path>
              <a:path fill="lightenLess" w="135036" h="21600">
                <a:moveTo>
                  <a:pt x="0" y="0"/>
                </a:moveTo>
                <a:lnTo>
                  <a:pt x="135036" y="0"/>
                </a:lnTo>
                <a:lnTo>
                  <a:pt x="133636" y="1400"/>
                </a:lnTo>
                <a:lnTo>
                  <a:pt x="1400" y="1400"/>
                </a:lnTo>
                <a:close/>
              </a:path>
              <a:path fill="darken" w="135036" h="21600">
                <a:moveTo>
                  <a:pt x="135036" y="0"/>
                </a:moveTo>
                <a:lnTo>
                  <a:pt x="135036" y="21600"/>
                </a:lnTo>
                <a:lnTo>
                  <a:pt x="133636" y="20200"/>
                </a:lnTo>
                <a:lnTo>
                  <a:pt x="133636" y="1400"/>
                </a:lnTo>
                <a:close/>
              </a:path>
              <a:path fill="darkenLess" w="135036" h="21600">
                <a:moveTo>
                  <a:pt x="135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636" y="20200"/>
                </a:lnTo>
                <a:close/>
              </a:path>
              <a:path fill="lighten" w="135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5036" h="21600">
                <a:moveTo>
                  <a:pt x="60512" y="3794"/>
                </a:moveTo>
                <a:lnTo>
                  <a:pt x="74524" y="10800"/>
                </a:lnTo>
                <a:lnTo>
                  <a:pt x="6051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236000" y="6308640"/>
            <a:ext cx="1618920" cy="368280"/>
          </a:xfrm>
          <a:prstGeom prst="rect">
            <a:avLst/>
          </a:prstGeom>
          <a:solidFill>
            <a:srgbClr val="cc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35640" y="6308640"/>
            <a:ext cx="1619280" cy="36828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72000" y="6308640"/>
            <a:ext cx="1619280" cy="368280"/>
          </a:xfrm>
          <a:prstGeom prst="rect">
            <a:avLst/>
          </a:prstGeom>
          <a:solidFill>
            <a:srgbClr val="ffc9e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050920" y="260280"/>
            <a:ext cx="4861080" cy="6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VALUATION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8000" y="6308640"/>
            <a:ext cx="1619280" cy="368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6308640"/>
            <a:ext cx="1619280" cy="3682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50920" y="6273720"/>
            <a:ext cx="1476360" cy="360360"/>
          </a:xfrm>
          <a:custGeom>
            <a:avLst/>
            <a:gdLst>
              <a:gd name="textAreaLeft" fmla="*/ 23040 w 1476360"/>
              <a:gd name="textAreaRight" fmla="*/ 1453320 w 14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8426" h="21600">
                <a:moveTo>
                  <a:pt x="0" y="0"/>
                </a:moveTo>
                <a:lnTo>
                  <a:pt x="88426" y="0"/>
                </a:lnTo>
                <a:lnTo>
                  <a:pt x="88426" y="21600"/>
                </a:lnTo>
                <a:lnTo>
                  <a:pt x="0" y="21600"/>
                </a:lnTo>
                <a:close/>
              </a:path>
              <a:path fill="lightenLess" w="88426" h="21600">
                <a:moveTo>
                  <a:pt x="0" y="0"/>
                </a:moveTo>
                <a:lnTo>
                  <a:pt x="88426" y="0"/>
                </a:lnTo>
                <a:lnTo>
                  <a:pt x="87026" y="1400"/>
                </a:lnTo>
                <a:lnTo>
                  <a:pt x="1400" y="1400"/>
                </a:lnTo>
                <a:close/>
              </a:path>
              <a:path fill="darken" w="88426" h="21600">
                <a:moveTo>
                  <a:pt x="88426" y="0"/>
                </a:moveTo>
                <a:lnTo>
                  <a:pt x="88426" y="21600"/>
                </a:lnTo>
                <a:lnTo>
                  <a:pt x="87026" y="20200"/>
                </a:lnTo>
                <a:lnTo>
                  <a:pt x="87026" y="1400"/>
                </a:lnTo>
                <a:close/>
              </a:path>
              <a:path fill="darkenLess" w="88426" h="21600">
                <a:moveTo>
                  <a:pt x="884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026" y="20200"/>
                </a:lnTo>
                <a:close/>
              </a:path>
              <a:path fill="lighten" w="884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8426" h="21600">
                <a:moveTo>
                  <a:pt x="37207" y="3794"/>
                </a:moveTo>
                <a:lnTo>
                  <a:pt x="51220" y="10800"/>
                </a:lnTo>
                <a:lnTo>
                  <a:pt x="3720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016000" y="6273720"/>
            <a:ext cx="1476360" cy="393840"/>
          </a:xfrm>
          <a:custGeom>
            <a:avLst/>
            <a:gdLst>
              <a:gd name="textAreaLeft" fmla="*/ 25200 w 1476360"/>
              <a:gd name="textAreaRight" fmla="*/ 1451160 w 14763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80916" h="21600">
                <a:moveTo>
                  <a:pt x="0" y="0"/>
                </a:moveTo>
                <a:lnTo>
                  <a:pt x="80916" y="0"/>
                </a:lnTo>
                <a:lnTo>
                  <a:pt x="80916" y="21600"/>
                </a:lnTo>
                <a:lnTo>
                  <a:pt x="0" y="21600"/>
                </a:lnTo>
                <a:close/>
              </a:path>
              <a:path fill="lightenLess" w="80916" h="21600">
                <a:moveTo>
                  <a:pt x="0" y="0"/>
                </a:moveTo>
                <a:lnTo>
                  <a:pt x="80916" y="0"/>
                </a:lnTo>
                <a:lnTo>
                  <a:pt x="79516" y="1400"/>
                </a:lnTo>
                <a:lnTo>
                  <a:pt x="1400" y="1400"/>
                </a:lnTo>
                <a:close/>
              </a:path>
              <a:path fill="darken" w="80916" h="21600">
                <a:moveTo>
                  <a:pt x="80916" y="0"/>
                </a:moveTo>
                <a:lnTo>
                  <a:pt x="80916" y="21600"/>
                </a:lnTo>
                <a:lnTo>
                  <a:pt x="79516" y="20200"/>
                </a:lnTo>
                <a:lnTo>
                  <a:pt x="79516" y="1400"/>
                </a:lnTo>
                <a:close/>
              </a:path>
              <a:path fill="darkenLess" w="80916" h="21600">
                <a:moveTo>
                  <a:pt x="80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16" y="20200"/>
                </a:lnTo>
                <a:close/>
              </a:path>
              <a:path fill="lighten" w="80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16" h="21600">
                <a:moveTo>
                  <a:pt x="33452" y="3794"/>
                </a:moveTo>
                <a:lnTo>
                  <a:pt x="47465" y="10800"/>
                </a:lnTo>
                <a:lnTo>
                  <a:pt x="3345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4" action="ppaction://hlinksldjump"/>
          </p:cNvPr>
          <p:cNvSpPr/>
          <p:nvPr/>
        </p:nvSpPr>
        <p:spPr>
          <a:xfrm>
            <a:off x="3635280" y="6308640"/>
            <a:ext cx="1690920" cy="331920"/>
          </a:xfrm>
          <a:custGeom>
            <a:avLst/>
            <a:gdLst>
              <a:gd name="textAreaLeft" fmla="*/ 21240 w 1690920"/>
              <a:gd name="textAreaRight" fmla="*/ 1669680 w 1690920"/>
              <a:gd name="textAreaTop" fmla="*/ 21240 h 331920"/>
              <a:gd name="textAreaBottom" fmla="*/ 310680 h 331920"/>
            </a:gdLst>
            <a:ahLst/>
            <a:rect l="textAreaLeft" t="textAreaTop" r="textAreaRight" b="textAreaBottom"/>
            <a:pathLst>
              <a:path w="109942" h="21600">
                <a:moveTo>
                  <a:pt x="0" y="0"/>
                </a:moveTo>
                <a:lnTo>
                  <a:pt x="109942" y="0"/>
                </a:lnTo>
                <a:lnTo>
                  <a:pt x="109942" y="21600"/>
                </a:lnTo>
                <a:lnTo>
                  <a:pt x="0" y="21600"/>
                </a:lnTo>
                <a:close/>
              </a:path>
              <a:path fill="lightenLess" w="109942" h="21600">
                <a:moveTo>
                  <a:pt x="0" y="0"/>
                </a:moveTo>
                <a:lnTo>
                  <a:pt x="109942" y="0"/>
                </a:lnTo>
                <a:lnTo>
                  <a:pt x="108542" y="1400"/>
                </a:lnTo>
                <a:lnTo>
                  <a:pt x="1400" y="1400"/>
                </a:lnTo>
                <a:close/>
              </a:path>
              <a:path fill="darken" w="109942" h="21600">
                <a:moveTo>
                  <a:pt x="109942" y="0"/>
                </a:moveTo>
                <a:lnTo>
                  <a:pt x="109942" y="21600"/>
                </a:lnTo>
                <a:lnTo>
                  <a:pt x="108542" y="20200"/>
                </a:lnTo>
                <a:lnTo>
                  <a:pt x="108542" y="1400"/>
                </a:lnTo>
                <a:close/>
              </a:path>
              <a:path fill="darkenLess" w="109942" h="21600">
                <a:moveTo>
                  <a:pt x="109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8542" y="20200"/>
                </a:lnTo>
                <a:close/>
              </a:path>
              <a:path fill="lighten" w="109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9942" h="21600">
                <a:moveTo>
                  <a:pt x="47965" y="10800"/>
                </a:moveTo>
                <a:lnTo>
                  <a:pt x="61978" y="3794"/>
                </a:lnTo>
                <a:lnTo>
                  <a:pt x="6197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5" action="ppaction://hlinksldjump"/>
          </p:cNvPr>
          <p:cNvSpPr/>
          <p:nvPr/>
        </p:nvSpPr>
        <p:spPr>
          <a:xfrm>
            <a:off x="5400720" y="6273720"/>
            <a:ext cx="1692360" cy="358920"/>
          </a:xfrm>
          <a:custGeom>
            <a:avLst/>
            <a:gdLst>
              <a:gd name="textAreaLeft" fmla="*/ 23040 w 1692360"/>
              <a:gd name="textAreaRight" fmla="*/ 1669320 w 1692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01767" h="21600">
                <a:moveTo>
                  <a:pt x="0" y="0"/>
                </a:moveTo>
                <a:lnTo>
                  <a:pt x="101767" y="0"/>
                </a:lnTo>
                <a:lnTo>
                  <a:pt x="101767" y="21600"/>
                </a:lnTo>
                <a:lnTo>
                  <a:pt x="0" y="21600"/>
                </a:lnTo>
                <a:close/>
              </a:path>
              <a:path fill="lightenLess" w="101767" h="21600">
                <a:moveTo>
                  <a:pt x="0" y="0"/>
                </a:moveTo>
                <a:lnTo>
                  <a:pt x="101767" y="0"/>
                </a:lnTo>
                <a:lnTo>
                  <a:pt x="100367" y="1400"/>
                </a:lnTo>
                <a:lnTo>
                  <a:pt x="1400" y="1400"/>
                </a:lnTo>
                <a:close/>
              </a:path>
              <a:path fill="darken" w="101767" h="21600">
                <a:moveTo>
                  <a:pt x="101767" y="0"/>
                </a:moveTo>
                <a:lnTo>
                  <a:pt x="101767" y="21600"/>
                </a:lnTo>
                <a:lnTo>
                  <a:pt x="100367" y="20200"/>
                </a:lnTo>
                <a:lnTo>
                  <a:pt x="100367" y="1400"/>
                </a:lnTo>
                <a:close/>
              </a:path>
              <a:path fill="darkenLess" w="101767" h="21600">
                <a:moveTo>
                  <a:pt x="1017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367" y="20200"/>
                </a:lnTo>
                <a:close/>
              </a:path>
              <a:path fill="lighten" w="1017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1767" h="21600">
                <a:moveTo>
                  <a:pt x="43877" y="3794"/>
                </a:moveTo>
                <a:lnTo>
                  <a:pt x="57890" y="10800"/>
                </a:lnTo>
                <a:lnTo>
                  <a:pt x="438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6" action="ppaction://hlinksldjump"/>
          </p:cNvPr>
          <p:cNvSpPr/>
          <p:nvPr/>
        </p:nvSpPr>
        <p:spPr>
          <a:xfrm>
            <a:off x="7201080" y="6345360"/>
            <a:ext cx="1692000" cy="323640"/>
          </a:xfrm>
          <a:custGeom>
            <a:avLst/>
            <a:gdLst>
              <a:gd name="textAreaLeft" fmla="*/ 20880 w 1692000"/>
              <a:gd name="textAreaRight" fmla="*/ 1671120 w 169200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112824" h="21600">
                <a:moveTo>
                  <a:pt x="0" y="0"/>
                </a:moveTo>
                <a:lnTo>
                  <a:pt x="112824" y="0"/>
                </a:lnTo>
                <a:lnTo>
                  <a:pt x="112824" y="21600"/>
                </a:lnTo>
                <a:lnTo>
                  <a:pt x="0" y="21600"/>
                </a:lnTo>
                <a:close/>
              </a:path>
              <a:path fill="lightenLess" w="112824" h="21600">
                <a:moveTo>
                  <a:pt x="0" y="0"/>
                </a:moveTo>
                <a:lnTo>
                  <a:pt x="112824" y="0"/>
                </a:lnTo>
                <a:lnTo>
                  <a:pt x="111424" y="1400"/>
                </a:lnTo>
                <a:lnTo>
                  <a:pt x="1400" y="1400"/>
                </a:lnTo>
                <a:close/>
              </a:path>
              <a:path fill="darken" w="112824" h="21600">
                <a:moveTo>
                  <a:pt x="112824" y="0"/>
                </a:moveTo>
                <a:lnTo>
                  <a:pt x="112824" y="21600"/>
                </a:lnTo>
                <a:lnTo>
                  <a:pt x="111424" y="20200"/>
                </a:lnTo>
                <a:lnTo>
                  <a:pt x="111424" y="1400"/>
                </a:lnTo>
                <a:close/>
              </a:path>
              <a:path fill="darkenLess" w="112824" h="21600">
                <a:moveTo>
                  <a:pt x="11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424" y="20200"/>
                </a:lnTo>
                <a:close/>
              </a:path>
              <a:path fill="lighten" w="11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2824" h="21600">
                <a:moveTo>
                  <a:pt x="49406" y="3794"/>
                </a:moveTo>
                <a:lnTo>
                  <a:pt x="63418" y="10800"/>
                </a:lnTo>
                <a:lnTo>
                  <a:pt x="494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052640"/>
            <a:ext cx="824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r completed poster should have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 facts from your Author Detective Task She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 illustrations with cap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complete sent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mistakes in spelling, capitalization, and punct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re is the rubric that will be used to grade your poster. Take a look at it  to be sure you have included everyth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/>
              </a:rPr>
              <a:t>Rub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you are finished your poster, click 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clus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12000" y="5842080"/>
            <a:ext cx="504720" cy="503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8728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236000" y="6308640"/>
            <a:ext cx="1618920" cy="368280"/>
          </a:xfrm>
          <a:prstGeom prst="rect">
            <a:avLst/>
          </a:prstGeom>
          <a:solidFill>
            <a:srgbClr val="cc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72000" y="6308640"/>
            <a:ext cx="1619280" cy="36828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08360" y="6308640"/>
            <a:ext cx="1619280" cy="368280"/>
          </a:xfrm>
          <a:prstGeom prst="rect">
            <a:avLst/>
          </a:prstGeom>
          <a:solidFill>
            <a:srgbClr val="ffc9e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79640" y="333360"/>
            <a:ext cx="48974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CLUSION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43280" y="6308640"/>
            <a:ext cx="1618920" cy="368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6308640"/>
            <a:ext cx="1619280" cy="3682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7201080" y="6345360"/>
            <a:ext cx="1692000" cy="323640"/>
          </a:xfrm>
          <a:custGeom>
            <a:avLst/>
            <a:gdLst>
              <a:gd name="textAreaLeft" fmla="*/ 20880 w 1692000"/>
              <a:gd name="textAreaRight" fmla="*/ 1671120 w 169200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112824" h="21600">
                <a:moveTo>
                  <a:pt x="0" y="0"/>
                </a:moveTo>
                <a:lnTo>
                  <a:pt x="112824" y="0"/>
                </a:lnTo>
                <a:lnTo>
                  <a:pt x="112824" y="21600"/>
                </a:lnTo>
                <a:lnTo>
                  <a:pt x="0" y="21600"/>
                </a:lnTo>
                <a:close/>
              </a:path>
              <a:path fill="lightenLess" w="112824" h="21600">
                <a:moveTo>
                  <a:pt x="0" y="0"/>
                </a:moveTo>
                <a:lnTo>
                  <a:pt x="112824" y="0"/>
                </a:lnTo>
                <a:lnTo>
                  <a:pt x="111424" y="1400"/>
                </a:lnTo>
                <a:lnTo>
                  <a:pt x="1400" y="1400"/>
                </a:lnTo>
                <a:close/>
              </a:path>
              <a:path fill="darken" w="112824" h="21600">
                <a:moveTo>
                  <a:pt x="112824" y="0"/>
                </a:moveTo>
                <a:lnTo>
                  <a:pt x="112824" y="21600"/>
                </a:lnTo>
                <a:lnTo>
                  <a:pt x="111424" y="20200"/>
                </a:lnTo>
                <a:lnTo>
                  <a:pt x="111424" y="1400"/>
                </a:lnTo>
                <a:close/>
              </a:path>
              <a:path fill="darkenLess" w="112824" h="21600">
                <a:moveTo>
                  <a:pt x="11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424" y="20200"/>
                </a:lnTo>
                <a:close/>
              </a:path>
              <a:path fill="lighten" w="11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2824" h="21600">
                <a:moveTo>
                  <a:pt x="49406" y="3794"/>
                </a:moveTo>
                <a:lnTo>
                  <a:pt x="63418" y="10800"/>
                </a:lnTo>
                <a:lnTo>
                  <a:pt x="494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250920" y="6273720"/>
            <a:ext cx="1476360" cy="360360"/>
          </a:xfrm>
          <a:custGeom>
            <a:avLst/>
            <a:gdLst>
              <a:gd name="textAreaLeft" fmla="*/ 23040 w 1476360"/>
              <a:gd name="textAreaRight" fmla="*/ 1453320 w 14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8426" h="21600">
                <a:moveTo>
                  <a:pt x="0" y="0"/>
                </a:moveTo>
                <a:lnTo>
                  <a:pt x="88426" y="0"/>
                </a:lnTo>
                <a:lnTo>
                  <a:pt x="88426" y="21600"/>
                </a:lnTo>
                <a:lnTo>
                  <a:pt x="0" y="21600"/>
                </a:lnTo>
                <a:close/>
              </a:path>
              <a:path fill="lightenLess" w="88426" h="21600">
                <a:moveTo>
                  <a:pt x="0" y="0"/>
                </a:moveTo>
                <a:lnTo>
                  <a:pt x="88426" y="0"/>
                </a:lnTo>
                <a:lnTo>
                  <a:pt x="87026" y="1400"/>
                </a:lnTo>
                <a:lnTo>
                  <a:pt x="1400" y="1400"/>
                </a:lnTo>
                <a:close/>
              </a:path>
              <a:path fill="darken" w="88426" h="21600">
                <a:moveTo>
                  <a:pt x="88426" y="0"/>
                </a:moveTo>
                <a:lnTo>
                  <a:pt x="88426" y="21600"/>
                </a:lnTo>
                <a:lnTo>
                  <a:pt x="87026" y="20200"/>
                </a:lnTo>
                <a:lnTo>
                  <a:pt x="87026" y="1400"/>
                </a:lnTo>
                <a:close/>
              </a:path>
              <a:path fill="darkenLess" w="88426" h="21600">
                <a:moveTo>
                  <a:pt x="884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026" y="20200"/>
                </a:lnTo>
                <a:close/>
              </a:path>
              <a:path fill="lighten" w="884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8426" h="21600">
                <a:moveTo>
                  <a:pt x="37207" y="3794"/>
                </a:moveTo>
                <a:lnTo>
                  <a:pt x="51220" y="10800"/>
                </a:lnTo>
                <a:lnTo>
                  <a:pt x="3720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4" action="ppaction://hlinksldjump"/>
          </p:cNvPr>
          <p:cNvSpPr/>
          <p:nvPr/>
        </p:nvSpPr>
        <p:spPr>
          <a:xfrm>
            <a:off x="2016000" y="6273720"/>
            <a:ext cx="1476360" cy="393840"/>
          </a:xfrm>
          <a:custGeom>
            <a:avLst/>
            <a:gdLst>
              <a:gd name="textAreaLeft" fmla="*/ 25200 w 1476360"/>
              <a:gd name="textAreaRight" fmla="*/ 1451160 w 14763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80916" h="21600">
                <a:moveTo>
                  <a:pt x="0" y="0"/>
                </a:moveTo>
                <a:lnTo>
                  <a:pt x="80916" y="0"/>
                </a:lnTo>
                <a:lnTo>
                  <a:pt x="80916" y="21600"/>
                </a:lnTo>
                <a:lnTo>
                  <a:pt x="0" y="21600"/>
                </a:lnTo>
                <a:close/>
              </a:path>
              <a:path fill="lightenLess" w="80916" h="21600">
                <a:moveTo>
                  <a:pt x="0" y="0"/>
                </a:moveTo>
                <a:lnTo>
                  <a:pt x="80916" y="0"/>
                </a:lnTo>
                <a:lnTo>
                  <a:pt x="79516" y="1400"/>
                </a:lnTo>
                <a:lnTo>
                  <a:pt x="1400" y="1400"/>
                </a:lnTo>
                <a:close/>
              </a:path>
              <a:path fill="darken" w="80916" h="21600">
                <a:moveTo>
                  <a:pt x="80916" y="0"/>
                </a:moveTo>
                <a:lnTo>
                  <a:pt x="80916" y="21600"/>
                </a:lnTo>
                <a:lnTo>
                  <a:pt x="79516" y="20200"/>
                </a:lnTo>
                <a:lnTo>
                  <a:pt x="79516" y="1400"/>
                </a:lnTo>
                <a:close/>
              </a:path>
              <a:path fill="darkenLess" w="80916" h="21600">
                <a:moveTo>
                  <a:pt x="80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16" y="20200"/>
                </a:lnTo>
                <a:close/>
              </a:path>
              <a:path fill="lighten" w="80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16" h="21600">
                <a:moveTo>
                  <a:pt x="33452" y="3794"/>
                </a:moveTo>
                <a:lnTo>
                  <a:pt x="47465" y="10800"/>
                </a:lnTo>
                <a:lnTo>
                  <a:pt x="3345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5" action="ppaction://hlinksldjump"/>
          </p:cNvPr>
          <p:cNvSpPr/>
          <p:nvPr/>
        </p:nvSpPr>
        <p:spPr>
          <a:xfrm>
            <a:off x="3635280" y="6308640"/>
            <a:ext cx="1690920" cy="331920"/>
          </a:xfrm>
          <a:custGeom>
            <a:avLst/>
            <a:gdLst>
              <a:gd name="textAreaLeft" fmla="*/ 21240 w 1690920"/>
              <a:gd name="textAreaRight" fmla="*/ 1669680 w 1690920"/>
              <a:gd name="textAreaTop" fmla="*/ 21240 h 331920"/>
              <a:gd name="textAreaBottom" fmla="*/ 310680 h 331920"/>
            </a:gdLst>
            <a:ahLst/>
            <a:rect l="textAreaLeft" t="textAreaTop" r="textAreaRight" b="textAreaBottom"/>
            <a:pathLst>
              <a:path w="109942" h="21600">
                <a:moveTo>
                  <a:pt x="0" y="0"/>
                </a:moveTo>
                <a:lnTo>
                  <a:pt x="109942" y="0"/>
                </a:lnTo>
                <a:lnTo>
                  <a:pt x="109942" y="21600"/>
                </a:lnTo>
                <a:lnTo>
                  <a:pt x="0" y="21600"/>
                </a:lnTo>
                <a:close/>
              </a:path>
              <a:path fill="lightenLess" w="109942" h="21600">
                <a:moveTo>
                  <a:pt x="0" y="0"/>
                </a:moveTo>
                <a:lnTo>
                  <a:pt x="109942" y="0"/>
                </a:lnTo>
                <a:lnTo>
                  <a:pt x="108542" y="1400"/>
                </a:lnTo>
                <a:lnTo>
                  <a:pt x="1400" y="1400"/>
                </a:lnTo>
                <a:close/>
              </a:path>
              <a:path fill="darken" w="109942" h="21600">
                <a:moveTo>
                  <a:pt x="109942" y="0"/>
                </a:moveTo>
                <a:lnTo>
                  <a:pt x="109942" y="21600"/>
                </a:lnTo>
                <a:lnTo>
                  <a:pt x="108542" y="20200"/>
                </a:lnTo>
                <a:lnTo>
                  <a:pt x="108542" y="1400"/>
                </a:lnTo>
                <a:close/>
              </a:path>
              <a:path fill="darkenLess" w="109942" h="21600">
                <a:moveTo>
                  <a:pt x="109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8542" y="20200"/>
                </a:lnTo>
                <a:close/>
              </a:path>
              <a:path fill="lighten" w="109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9942" h="21600">
                <a:moveTo>
                  <a:pt x="47965" y="10800"/>
                </a:moveTo>
                <a:lnTo>
                  <a:pt x="61978" y="3794"/>
                </a:lnTo>
                <a:lnTo>
                  <a:pt x="6197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6" action="ppaction://hlinksldjump"/>
          </p:cNvPr>
          <p:cNvSpPr/>
          <p:nvPr/>
        </p:nvSpPr>
        <p:spPr>
          <a:xfrm>
            <a:off x="5400720" y="6273720"/>
            <a:ext cx="1692360" cy="358920"/>
          </a:xfrm>
          <a:custGeom>
            <a:avLst/>
            <a:gdLst>
              <a:gd name="textAreaLeft" fmla="*/ 23040 w 1692360"/>
              <a:gd name="textAreaRight" fmla="*/ 1669320 w 1692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01767" h="21600">
                <a:moveTo>
                  <a:pt x="0" y="0"/>
                </a:moveTo>
                <a:lnTo>
                  <a:pt x="101767" y="0"/>
                </a:lnTo>
                <a:lnTo>
                  <a:pt x="101767" y="21600"/>
                </a:lnTo>
                <a:lnTo>
                  <a:pt x="0" y="21600"/>
                </a:lnTo>
                <a:close/>
              </a:path>
              <a:path fill="lightenLess" w="101767" h="21600">
                <a:moveTo>
                  <a:pt x="0" y="0"/>
                </a:moveTo>
                <a:lnTo>
                  <a:pt x="101767" y="0"/>
                </a:lnTo>
                <a:lnTo>
                  <a:pt x="100367" y="1400"/>
                </a:lnTo>
                <a:lnTo>
                  <a:pt x="1400" y="1400"/>
                </a:lnTo>
                <a:close/>
              </a:path>
              <a:path fill="darken" w="101767" h="21600">
                <a:moveTo>
                  <a:pt x="101767" y="0"/>
                </a:moveTo>
                <a:lnTo>
                  <a:pt x="101767" y="21600"/>
                </a:lnTo>
                <a:lnTo>
                  <a:pt x="100367" y="20200"/>
                </a:lnTo>
                <a:lnTo>
                  <a:pt x="100367" y="1400"/>
                </a:lnTo>
                <a:close/>
              </a:path>
              <a:path fill="darkenLess" w="101767" h="21600">
                <a:moveTo>
                  <a:pt x="1017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367" y="20200"/>
                </a:lnTo>
                <a:close/>
              </a:path>
              <a:path fill="lighten" w="1017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1767" h="21600">
                <a:moveTo>
                  <a:pt x="43877" y="3794"/>
                </a:moveTo>
                <a:lnTo>
                  <a:pt x="57890" y="10800"/>
                </a:lnTo>
                <a:lnTo>
                  <a:pt x="438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1125360"/>
            <a:ext cx="79930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gratulation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completed this Author Investigation WebQuest. I hope you had fun learning about a great children’s auth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r next step could be to search the web on your own to find information about other auth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re are some other favori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rbara Park (Junie B. J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. L. Stine (Goosebum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ric Car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7236000" y="3860640"/>
            <a:ext cx="1333440" cy="1198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rcRect l="-3965" t="0" r="5882" b="-10208"/>
          <a:stretch/>
        </p:blipFill>
        <p:spPr>
          <a:xfrm>
            <a:off x="6840360" y="0"/>
            <a:ext cx="1656000" cy="143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6058080"/>
            <a:ext cx="2449440" cy="502920"/>
          </a:xfrm>
          <a:prstGeom prst="leftArrow">
            <a:avLst>
              <a:gd name="adj1" fmla="val 50000"/>
              <a:gd name="adj2" fmla="val 121761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CK TO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1640" y="692280"/>
            <a:ext cx="788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v Pil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ick on the links to read and learn as much as you can about Dav Pilkey. Record information on the Author Detective Task Sh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kip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idsread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view from Reading Pla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du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216000" y="6058080"/>
            <a:ext cx="2700360" cy="468000"/>
          </a:xfrm>
          <a:custGeom>
            <a:avLst/>
            <a:gdLst>
              <a:gd name="textAreaLeft" fmla="*/ 30240 w 2700360"/>
              <a:gd name="textAreaRight" fmla="*/ 2670120 w 2700360"/>
              <a:gd name="textAreaTop" fmla="*/ 30240 h 468000"/>
              <a:gd name="textAreaBottom" fmla="*/ 437760 h 468000"/>
            </a:gdLst>
            <a:ahLst/>
            <a:rect l="textAreaLeft" t="textAreaTop" r="textAreaRight" b="textAreaBottom"/>
            <a:pathLst>
              <a:path w="124553" h="21600">
                <a:moveTo>
                  <a:pt x="0" y="0"/>
                </a:moveTo>
                <a:lnTo>
                  <a:pt x="124553" y="0"/>
                </a:lnTo>
                <a:lnTo>
                  <a:pt x="124553" y="21600"/>
                </a:lnTo>
                <a:lnTo>
                  <a:pt x="0" y="21600"/>
                </a:lnTo>
                <a:close/>
              </a:path>
              <a:path fill="lightenLess" w="124553" h="21600">
                <a:moveTo>
                  <a:pt x="0" y="0"/>
                </a:moveTo>
                <a:lnTo>
                  <a:pt x="124553" y="0"/>
                </a:lnTo>
                <a:lnTo>
                  <a:pt x="123153" y="1400"/>
                </a:lnTo>
                <a:lnTo>
                  <a:pt x="1400" y="1400"/>
                </a:lnTo>
                <a:close/>
              </a:path>
              <a:path fill="darken" w="124553" h="21600">
                <a:moveTo>
                  <a:pt x="124553" y="0"/>
                </a:moveTo>
                <a:lnTo>
                  <a:pt x="124553" y="21600"/>
                </a:lnTo>
                <a:lnTo>
                  <a:pt x="123153" y="20200"/>
                </a:lnTo>
                <a:lnTo>
                  <a:pt x="123153" y="1400"/>
                </a:lnTo>
                <a:close/>
              </a:path>
              <a:path fill="darkenLess" w="124553" h="21600">
                <a:moveTo>
                  <a:pt x="124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153" y="20200"/>
                </a:lnTo>
                <a:close/>
              </a:path>
              <a:path fill="lighten" w="124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4553" h="21600">
                <a:moveTo>
                  <a:pt x="55270" y="10800"/>
                </a:moveTo>
                <a:lnTo>
                  <a:pt x="69283" y="3794"/>
                </a:lnTo>
                <a:lnTo>
                  <a:pt x="6928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0920" y="6058080"/>
            <a:ext cx="2376360" cy="539640"/>
          </a:xfrm>
          <a:prstGeom prst="leftArrow">
            <a:avLst>
              <a:gd name="adj1" fmla="val 50000"/>
              <a:gd name="adj2" fmla="val 11009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CK TO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1640" y="692280"/>
            <a:ext cx="7885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gela 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ick on the links to read and learn as much as you can about Angela Johnson. Record information on the Author Detective Task Sh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du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lifornia K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kip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250920" y="6093000"/>
            <a:ext cx="2736720" cy="468000"/>
          </a:xfrm>
          <a:custGeom>
            <a:avLst/>
            <a:gdLst>
              <a:gd name="textAreaLeft" fmla="*/ 30240 w 2736720"/>
              <a:gd name="textAreaRight" fmla="*/ 2706480 w 2736720"/>
              <a:gd name="textAreaTop" fmla="*/ 30240 h 468000"/>
              <a:gd name="textAreaBottom" fmla="*/ 437760 h 468000"/>
            </a:gdLst>
            <a:ahLst/>
            <a:rect l="textAreaLeft" t="textAreaTop" r="textAreaRight" b="textAreaBottom"/>
            <a:pathLst>
              <a:path w="126230" h="21600">
                <a:moveTo>
                  <a:pt x="0" y="0"/>
                </a:moveTo>
                <a:lnTo>
                  <a:pt x="126230" y="0"/>
                </a:lnTo>
                <a:lnTo>
                  <a:pt x="126230" y="21600"/>
                </a:lnTo>
                <a:lnTo>
                  <a:pt x="0" y="21600"/>
                </a:lnTo>
                <a:close/>
              </a:path>
              <a:path fill="lightenLess" w="126230" h="21600">
                <a:moveTo>
                  <a:pt x="0" y="0"/>
                </a:moveTo>
                <a:lnTo>
                  <a:pt x="126230" y="0"/>
                </a:lnTo>
                <a:lnTo>
                  <a:pt x="124830" y="1400"/>
                </a:lnTo>
                <a:lnTo>
                  <a:pt x="1400" y="1400"/>
                </a:lnTo>
                <a:close/>
              </a:path>
              <a:path fill="darken" w="126230" h="21600">
                <a:moveTo>
                  <a:pt x="126230" y="0"/>
                </a:moveTo>
                <a:lnTo>
                  <a:pt x="126230" y="21600"/>
                </a:lnTo>
                <a:lnTo>
                  <a:pt x="124830" y="20200"/>
                </a:lnTo>
                <a:lnTo>
                  <a:pt x="124830" y="1400"/>
                </a:lnTo>
                <a:close/>
              </a:path>
              <a:path fill="darkenLess" w="126230" h="21600">
                <a:moveTo>
                  <a:pt x="126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830" y="20200"/>
                </a:lnTo>
                <a:close/>
              </a:path>
              <a:path fill="lighten" w="126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6230" h="21600">
                <a:moveTo>
                  <a:pt x="56108" y="10800"/>
                </a:moveTo>
                <a:lnTo>
                  <a:pt x="70121" y="3794"/>
                </a:lnTo>
                <a:lnTo>
                  <a:pt x="7012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0920" y="6058080"/>
            <a:ext cx="2341440" cy="574560"/>
          </a:xfrm>
          <a:prstGeom prst="leftArrow">
            <a:avLst>
              <a:gd name="adj1" fmla="val 50000"/>
              <a:gd name="adj2" fmla="val 10188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CK TO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216000" y="6093000"/>
            <a:ext cx="2592360" cy="468000"/>
          </a:xfrm>
          <a:custGeom>
            <a:avLst/>
            <a:gdLst>
              <a:gd name="textAreaLeft" fmla="*/ 30240 w 2592360"/>
              <a:gd name="textAreaRight" fmla="*/ 2562120 w 2592360"/>
              <a:gd name="textAreaTop" fmla="*/ 30240 h 468000"/>
              <a:gd name="textAreaBottom" fmla="*/ 437760 h 468000"/>
            </a:gdLst>
            <a:ahLst/>
            <a:rect l="textAreaLeft" t="textAreaTop" r="textAreaRight" b="textAreaBottom"/>
            <a:pathLst>
              <a:path w="119572" h="21600">
                <a:moveTo>
                  <a:pt x="0" y="0"/>
                </a:moveTo>
                <a:lnTo>
                  <a:pt x="119572" y="0"/>
                </a:lnTo>
                <a:lnTo>
                  <a:pt x="119572" y="21600"/>
                </a:lnTo>
                <a:lnTo>
                  <a:pt x="0" y="21600"/>
                </a:lnTo>
                <a:close/>
              </a:path>
              <a:path fill="lightenLess" w="119572" h="21600">
                <a:moveTo>
                  <a:pt x="0" y="0"/>
                </a:moveTo>
                <a:lnTo>
                  <a:pt x="119572" y="0"/>
                </a:lnTo>
                <a:lnTo>
                  <a:pt x="118172" y="1400"/>
                </a:lnTo>
                <a:lnTo>
                  <a:pt x="1400" y="1400"/>
                </a:lnTo>
                <a:close/>
              </a:path>
              <a:path fill="darken" w="119572" h="21600">
                <a:moveTo>
                  <a:pt x="119572" y="0"/>
                </a:moveTo>
                <a:lnTo>
                  <a:pt x="119572" y="21600"/>
                </a:lnTo>
                <a:lnTo>
                  <a:pt x="118172" y="20200"/>
                </a:lnTo>
                <a:lnTo>
                  <a:pt x="118172" y="1400"/>
                </a:lnTo>
                <a:close/>
              </a:path>
              <a:path fill="darkenLess" w="119572" h="21600">
                <a:moveTo>
                  <a:pt x="119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172" y="20200"/>
                </a:lnTo>
                <a:close/>
              </a:path>
              <a:path fill="lighten" w="119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9572" h="21600">
                <a:moveTo>
                  <a:pt x="52780" y="10800"/>
                </a:moveTo>
                <a:lnTo>
                  <a:pt x="66792" y="3794"/>
                </a:lnTo>
                <a:lnTo>
                  <a:pt x="6679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1640" y="692280"/>
            <a:ext cx="788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ynthia Ry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ick on the links to read and learn as much as you can about Cynthia Rylant. Record information on the Author Detective Task Sh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du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otlight on Cynthia Ry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idsread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kip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eve</cp:lastModifiedBy>
  <dcterms:modified xsi:type="dcterms:W3CDTF">2010-04-11T15:04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